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08D2-5782-4F51-8E7E-ABE4DCE0CED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2151-E433-44DE-A5E1-0EFBA9CA0DE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010F-53B9-46C3-910F-9CC2C825FBE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 to quiz: 1 – F(1.2 billion)  2-T  3-F(training)  4-F(60%)  5-T  6-F(opposite: 8X more likely for women)  7-T  8-F(16 million)  9-T  10-F(pregnancy and childbirt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0789-3EC3-4778-980E-139DDD1D8C3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C937-9654-41BA-9ED8-F3015FC6E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779B-E275-43BE-93E4-13C1296C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21FF-B3EB-45BC-82B4-2C7D8F0A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F7D5-2A15-45C4-BED9-0C3BAFFC9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05B4-C2E5-4A71-820E-0D9F5C76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866F-505D-46D4-B611-1B05DE5E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7AE0-DFAF-41FA-B01F-904DFAB1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2416-A7AD-48FD-BFD1-1AB67CED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D32F-3BD4-4332-9B55-204DC603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516A-8177-4C6B-9B5A-B1FC3B65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532F-8F13-4D8E-8633-5A201DA8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BA05-21A7-426E-8337-3ECAEE65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26EE-0BDC-4E3A-BC04-6D44C5DA17D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Calibri"/>
              </a:rPr>
              <a:t>Quiz about young people in the world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: </a:t>
            </a:r>
            <a:br>
              <a:rPr sz="3600"/>
            </a:b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True or false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141264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re are 1 billion young people in the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51% of the youth labour force is unemployed in Spain in 2012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NEET” stands for “Neither in Employment, Education or Travel”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re is 50% youth unemployment in Afric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44% of 15 – 24 year olds are underweight in Indi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In Sub-Saharan Africa, young men are up to 8 x more likely than young women to be HIV positiv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legal marrying age in Iran is 13 for girls and 15 for boy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6 million adolescent girls become mothers every year around the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youth literacy rate is 74% in Africa, and 97% in Latin Americ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biggest killer of girls aged 15 – 19 is diseas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62752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Now check the facts from this infographic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924280"/>
            <a:ext cx="483552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lick on this link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http://www.newint.org/features/2012/10/01/n456_infographic.jp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5519880" y="1844640"/>
            <a:ext cx="3311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are young people doing to help the world change?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d 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3429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ad these two easier English texts to find 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eewiki.newint.org/index.php/Young_people_becoming_more_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eewiki.newint.org/index.php/Giving_up_our_ideals_is_no_longer_an_o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youth2.jpg"/>
          <p:cNvPicPr/>
          <p:nvPr/>
        </p:nvPicPr>
        <p:blipFill>
          <a:blip r:embed="rId1"/>
          <a:stretch/>
        </p:blipFill>
        <p:spPr>
          <a:xfrm>
            <a:off x="6084720" y="1989000"/>
            <a:ext cx="222264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6:24:05Z</dcterms:created>
  <dc:creator>Mix</dc:creator>
  <dc:description/>
  <dc:language>en-US</dc:language>
  <cp:lastModifiedBy>Linda Ruas</cp:lastModifiedBy>
  <dcterms:modified xsi:type="dcterms:W3CDTF">2014-05-26T20:29:14Z</dcterms:modified>
  <cp:revision>8</cp:revision>
  <dc:subject/>
  <dc:title>Youth</dc:title>
</cp:coreProperties>
</file>